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1000" y="977760"/>
            <a:ext cx="6570720" cy="74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30            OMA-EXPENDITURE                16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1       $ 20,363.36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$112,3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32       $ 10,16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0       $ 11,080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$  (100.00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040" y="8674200"/>
            <a:ext cx="6334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11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3920" y="243828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TRAVEL ADVANCE  FUNCTION       BLOCK NUMBER______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DUE                    LAST         U  ORDER   VOUCHER         RECL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DATE  EOR  APC   ODC   NAME   SSN   C  NUMBER  NUMBER  AMOUNT  WR-OFF IBOP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4972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260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2362320"/>
            <a:ext cx="0" cy="36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2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228600" y="457200"/>
            <a:ext cx="6319800" cy="8308440"/>
            <a:chOff x="228600" y="457200"/>
            <a:chExt cx="6319800" cy="8308440"/>
          </a:xfrm>
        </p:grpSpPr>
        <p:sp>
          <p:nvSpPr>
            <p:cNvPr id="238" name=""/>
            <p:cNvSpPr/>
            <p:nvPr/>
          </p:nvSpPr>
          <p:spPr>
            <a:xfrm>
              <a:off x="228600" y="457200"/>
              <a:ext cx="475632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06560" y="500040"/>
              <a:ext cx="335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ERIAL INSPECTION AND RECEIVING RE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8600" y="7653240"/>
              <a:ext cx="6319800" cy="9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7480" y="7696080"/>
              <a:ext cx="900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3. CONTRACTOR USE ONL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9520" y="43876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6280" y="4387680"/>
              <a:ext cx="207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NTAL CONTRACT SERVICE - DEC *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27720" y="5276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28080" y="542304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28080" y="55767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0360" y="438768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2600" y="4387680"/>
              <a:ext cx="57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5240" y="1235160"/>
              <a:ext cx="495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5240" y="1235160"/>
              <a:ext cx="495360" cy="27288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58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5920" y="126036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.   P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3240" y="7251840"/>
              <a:ext cx="2135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69400" y="7251840"/>
              <a:ext cx="180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* If quantity received by the Government is th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65080" y="7346880"/>
              <a:ext cx="1520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same as quantity shipped, indicate by 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39760" y="1508040"/>
              <a:ext cx="2049480" cy="138240"/>
            </a:xfrm>
            <a:custGeom>
              <a:avLst/>
              <a:gdLst/>
              <a:ahLst/>
              <a:rect l="l" t="t" r="r" b="b"/>
              <a:pathLst>
                <a:path w="240" h="16">
                  <a:moveTo>
                    <a:pt x="0" y="0"/>
                  </a:moveTo>
                  <a:lnTo>
                    <a:pt x="240" y="0"/>
                  </a:lnTo>
                  <a:lnTo>
                    <a:pt x="24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039760" y="15080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67480" y="15256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. B/L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79920" y="3970440"/>
              <a:ext cx="10684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536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0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34440" y="394488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05720" y="4192560"/>
              <a:ext cx="38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79920" y="4379760"/>
              <a:ext cx="106848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13240" y="3970440"/>
              <a:ext cx="3240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4744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48600" y="3944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3168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73720" y="41925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13240" y="4379760"/>
              <a:ext cx="32400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3970440"/>
              <a:ext cx="27925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56240" y="398772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6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92320" y="3962520"/>
              <a:ext cx="101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OCK/PART NO.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78080" y="3987720"/>
              <a:ext cx="40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00080" y="396252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SCRIPTION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67560" y="408132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Indicate number of shipping containers - type 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22160" y="4192560"/>
              <a:ext cx="1200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container - container number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19240" y="4192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7400" y="4379760"/>
              <a:ext cx="279252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7960" y="6294600"/>
              <a:ext cx="196380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00440" y="6311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. ORIG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" y="3970440"/>
              <a:ext cx="6588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2440" y="3987720"/>
              <a:ext cx="45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5.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1440" y="4192560"/>
              <a:ext cx="21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" y="689040"/>
              <a:ext cx="6319800" cy="469800"/>
            </a:xfrm>
            <a:custGeom>
              <a:avLst/>
              <a:gdLst/>
              <a:ahLst/>
              <a:rect l="l" t="t" r="r" b="b"/>
              <a:pathLst>
                <a:path w="740" h="55">
                  <a:moveTo>
                    <a:pt x="0" y="0"/>
                  </a:moveTo>
                  <a:lnTo>
                    <a:pt x="740" y="0"/>
                  </a:lnTo>
                  <a:lnTo>
                    <a:pt x="74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28600" y="688680"/>
              <a:ext cx="1440" cy="46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720" y="714240"/>
              <a:ext cx="5421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ublic reporting burden for this collection of information is estimated to average 30 minutes per response, including the time for reviewing instructions, searching existing data sources, gather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800" y="782640"/>
              <a:ext cx="508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maintaining the data needed, and completing and reviewing the collection of information.  Send comments regarding this burden estimate or any other aspect of this collection 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0840" y="851040"/>
              <a:ext cx="5373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ormation, including suggestions for reducing this burden, to Department of Defense, Washington Headquarters Services, Directorate for Information Operations and Reports, 1215 Jeffers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8040" y="919080"/>
              <a:ext cx="4766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vis Highway, Suite 1204, Arlington, VA 22202-4302, and to the Office of Management and Budget, Paperwork Reduction Project (0704-0248), Washington, DC 20503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" y="123516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" y="1235160"/>
              <a:ext cx="2382840" cy="272880"/>
            </a:xfrm>
            <a:custGeom>
              <a:avLst/>
              <a:gdLst/>
              <a:ahLst/>
              <a:rect l="l" t="t" r="r" b="b"/>
              <a:pathLst>
                <a:path w="279" h="32">
                  <a:moveTo>
                    <a:pt x="279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4240" y="1270080"/>
              <a:ext cx="1317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. PROC. INSTRUMENT IDEN. (CONTRACT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81200" y="12445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1080" y="1336680"/>
              <a:ext cx="91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FI01-**-C 171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32240" y="1235160"/>
              <a:ext cx="114300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68960" y="1270080"/>
              <a:ext cx="675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. INVOICE NO./DAT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1508040"/>
              <a:ext cx="99072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7480" y="1525680"/>
              <a:ext cx="55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. SHIPMENT NO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7804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640" y="1601640"/>
              <a:ext cx="27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2-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39760" y="1508040"/>
              <a:ext cx="2049480" cy="274680"/>
            </a:xfrm>
            <a:custGeom>
              <a:avLst/>
              <a:gdLst/>
              <a:ahLst/>
              <a:rect l="l" t="t" r="r" b="b"/>
              <a:pathLst>
                <a:path w="240" h="32">
                  <a:moveTo>
                    <a:pt x="0" y="0"/>
                  </a:moveTo>
                  <a:lnTo>
                    <a:pt x="240" y="0"/>
                  </a:lnTo>
                  <a:lnTo>
                    <a:pt x="24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039760" y="1507680"/>
              <a:ext cx="1800" cy="27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2160" y="1482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2160" y="1603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89240" y="1508040"/>
              <a:ext cx="2459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19480" y="1525680"/>
              <a:ext cx="648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DISCOUNT TERM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27840" y="1601640"/>
              <a:ext cx="49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/10, N/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0000" y="862812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D Form 250, NOV 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59080" y="8688240"/>
              <a:ext cx="447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SAPPC V1.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84920" y="457200"/>
              <a:ext cx="156348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22680" y="492120"/>
              <a:ext cx="58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Form Approved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5920" y="568440"/>
              <a:ext cx="584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OMB No. 0704-024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79920" y="1235160"/>
              <a:ext cx="106848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20240" y="1260360"/>
              <a:ext cx="723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. ACCEPTANCE POI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11440" y="1235160"/>
              <a:ext cx="820800" cy="27288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0"/>
                  </a:moveTo>
                  <a:lnTo>
                    <a:pt x="96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11440" y="1235160"/>
              <a:ext cx="820800" cy="13644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0" y="0"/>
                  </a:moveTo>
                  <a:lnTo>
                    <a:pt x="96" y="0"/>
                  </a:lnTo>
                  <a:lnTo>
                    <a:pt x="96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61144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120" y="1260360"/>
              <a:ext cx="40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ORDER)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9320" y="1508040"/>
              <a:ext cx="82044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52080" y="1525680"/>
              <a:ext cx="56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. DATE SHIPPED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6048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5424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39760" y="1697040"/>
              <a:ext cx="2049480" cy="222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71800" y="175752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CN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600" y="328608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7760" y="3328920"/>
              <a:ext cx="989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3. SHIPPED TO     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33520" y="3303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58000" y="3286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0360" y="3430440"/>
              <a:ext cx="110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S ARMY HOSPI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1440" y="3576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7840" y="372096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9760" y="3286080"/>
              <a:ext cx="1392480" cy="17928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03976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600" y="2603520"/>
              <a:ext cx="320364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8560" y="2646360"/>
              <a:ext cx="595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. SHIPPED FR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7840" y="2646360"/>
              <a:ext cx="474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If other than 9)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55840" y="264636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9760" y="2603520"/>
              <a:ext cx="733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03976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96840" y="2662200"/>
              <a:ext cx="15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OB: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53440" y="2637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32240" y="328608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67880" y="3328920"/>
              <a:ext cx="662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4. MARKED FOR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07680" y="3286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328608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47992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32240" y="2603520"/>
              <a:ext cx="311616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68600" y="2646360"/>
              <a:ext cx="1012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. PAYMENT WILL BE MADE BY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73280" y="2747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73280" y="2892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69680" y="303840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79920" y="260352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47992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2240" y="191916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69680" y="1962000"/>
              <a:ext cx="749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. ADMINISTERED BY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92640" y="191916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72200" y="2063880"/>
              <a:ext cx="75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&amp;C OFFICE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69680" y="220824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79920" y="1919160"/>
              <a:ext cx="1059120" cy="17964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47992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191916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7120" y="1962000"/>
              <a:ext cx="762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. PRIME CONTRACTOR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81440" y="1919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0360" y="2063880"/>
              <a:ext cx="1722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UALITY X-RAY SERVICES INC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965 INDUSTRIAL BLV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AVANNAH,   GA 31314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9280" y="2208240"/>
              <a:ext cx="131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965 INDUSTRIAL BLV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440" y="23544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39760" y="1919160"/>
              <a:ext cx="1392480" cy="17964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03976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4520" y="8637480"/>
              <a:ext cx="1178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Previous edition may be us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37240" y="3970440"/>
              <a:ext cx="7426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872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9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98160" y="3944880"/>
              <a:ext cx="54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6196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57480" y="419256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 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79920" y="3970440"/>
              <a:ext cx="7333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38600" y="3987720"/>
              <a:ext cx="47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7.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7000" y="4081320"/>
              <a:ext cx="447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62720" y="419256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IP/REC'D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" y="6157800"/>
              <a:ext cx="4184640" cy="136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60600" y="6167520"/>
              <a:ext cx="147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RACT QUALITY ASSUR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0720" y="6192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1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3240" y="6157800"/>
              <a:ext cx="2135160" cy="109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54640" y="6183360"/>
              <a:ext cx="12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2.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16280" y="6157800"/>
              <a:ext cx="1152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EIVER'S 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64720" y="6346800"/>
              <a:ext cx="177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ies shown in column 17 were receiv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66520" y="6432480"/>
              <a:ext cx="170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 apparent good condition except as not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43840" y="6738840"/>
              <a:ext cx="181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 RECEIVED           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55000" y="691848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53560" y="701352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13240" y="6705720"/>
              <a:ext cx="73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32240" y="6705720"/>
              <a:ext cx="131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1760" y="6294600"/>
              <a:ext cx="221148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45520" y="631188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. DESTIN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400" y="6568920"/>
              <a:ext cx="163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3680" y="6680160"/>
              <a:ext cx="167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sion and they conform to contract, ex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3320" y="6799320"/>
              <a:ext cx="174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noted herein 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6360" y="6423120"/>
              <a:ext cx="11916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0720" y="645804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8120" y="6423120"/>
              <a:ext cx="11880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8812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78080" y="6431040"/>
              <a:ext cx="12060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49440" y="647532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89200" y="6431040"/>
              <a:ext cx="11916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5984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58280" y="6568920"/>
              <a:ext cx="200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vision 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59360" y="668016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y conform to contract, except as noted here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2520" y="6799320"/>
              <a:ext cx="1113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036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" y="747396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4352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42080" y="7473960"/>
              <a:ext cx="34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TIITL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548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548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548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132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132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132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01760" y="7115040"/>
              <a:ext cx="61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138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59120" y="7115040"/>
              <a:ext cx="155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834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4280" y="7115040"/>
              <a:ext cx="45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00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9640" y="7115040"/>
              <a:ext cx="1392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576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70600" y="1235160"/>
              <a:ext cx="409320" cy="27288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8" y="0"/>
                  </a:moveTo>
                  <a:lnTo>
                    <a:pt x="48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70600" y="1235160"/>
              <a:ext cx="409320" cy="1364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0" y="0"/>
                  </a:moveTo>
                  <a:lnTo>
                    <a:pt x="48" y="0"/>
                  </a:lnTo>
                  <a:lnTo>
                    <a:pt x="4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07060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1260360"/>
              <a:ext cx="9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0480" y="437976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0480" y="44226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0480" y="447516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0480" y="4516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0480" y="45594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0480" y="461160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690480" y="4654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90480" y="4697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0480" y="473868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0480" y="47912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0480" y="48340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0480" y="48769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0480" y="492768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0480" y="49705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0480" y="50133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0480" y="506412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0480" y="510696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0480" y="51498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0480" y="520056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0480" y="52434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0480" y="52862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0480" y="53290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0480" y="538020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0480" y="5423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0480" y="54658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0480" y="55166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480" y="55594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0480" y="56023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0480" y="5654520"/>
            <a:ext cx="180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0480" y="569592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0480" y="57387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0480" y="579132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0480" y="58341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0480" y="58752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0480" y="591804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0480" y="597060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0480" y="6013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0480" y="6056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0480" y="610704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0480" y="61498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129360" y="7354800"/>
            <a:ext cx="936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29360" y="738036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67240" y="7432560"/>
            <a:ext cx="158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if different, enter actual quantity 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62200" y="7526160"/>
            <a:ext cx="1418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elow quantity shipped and encirc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93080" y="734688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) mark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6480" y="979560"/>
            <a:ext cx="387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EASE DO NOT RETURN YOUR COMPLETED FORM TO EITHER OF THESE ADDRESSE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11960" y="1090440"/>
            <a:ext cx="462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HIS FORM IN ACCORDANCE WITH THE INSTRUCTIONS CONTAINED IN THE DFARS, APPENDIX F-40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11920" y="6850080"/>
            <a:ext cx="83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O, GM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" y="457200"/>
            <a:ext cx="6319800" cy="8163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72960" y="688176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4760" y="6881760"/>
            <a:ext cx="112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82640" y="649440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80480" y="6494400"/>
            <a:ext cx="1051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73520" y="718668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ing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20880" y="4861080"/>
            <a:ext cx="29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7*0130 74-7406 847792.33-2320 W23DFB*3190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330 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68480" y="434340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Mon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2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2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1" name=""/>
          <p:cNvGraphicFramePr/>
          <p:nvPr/>
        </p:nvGraphicFramePr>
        <p:xfrm>
          <a:off x="0" y="152280"/>
          <a:ext cx="68580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2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2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00160" y="20559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0160" y="5103720"/>
            <a:ext cx="61480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7000" y="304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05120" y="457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5120" y="762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9320" y="11430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1523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2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"/>
          <p:cNvGraphicFramePr/>
          <p:nvPr/>
        </p:nvGraphicFramePr>
        <p:xfrm>
          <a:off x="152280" y="152280"/>
          <a:ext cx="6858000" cy="830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858000" cy="83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2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______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___   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2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40040" y="219240"/>
            <a:ext cx="1864080" cy="393480"/>
          </a:xfrm>
          <a:prstGeom prst="rect">
            <a:avLst/>
          </a:prstGeom>
          <a:noFill/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37400" y="495360"/>
            <a:ext cx="7866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56440" y="927000"/>
            <a:ext cx="149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70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55360" y="1562040"/>
            <a:ext cx="1621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ST SIGNAL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G 200, RM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1079640"/>
            <a:ext cx="130176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OUNT P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27160" y="2141640"/>
            <a:ext cx="632124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RRENT CHARGES                                                                               TOTAL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T DUE AFTER....  JAN 5, **                                                             AMOUNT DUE:  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7600" y="2890800"/>
            <a:ext cx="6486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ACH AND MAIL TOP PORTION WITH YOUR CHECK MADE PAYABLE TO GEORGIA BELL FOR THE TOTAL AMOUNT D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1480" y="342900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8560" y="3619440"/>
            <a:ext cx="137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ING SUMM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6320" y="3645000"/>
            <a:ext cx="11232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912)  355-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89720" y="4152960"/>
            <a:ext cx="85032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1520" y="4533840"/>
            <a:ext cx="6599160" cy="100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IOUS                                                                                                PAST DUE              CURRENT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                           PAYMENTS             ADJUSTMENTS                  AMOUNT              CHARGES     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3,965.00                   $13,965.00                   $0.00                                        0.00                  $14,185.00                 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807080" y="1295280"/>
            <a:ext cx="1282680" cy="298440"/>
            <a:chOff x="4807080" y="1295280"/>
            <a:chExt cx="1282680" cy="298440"/>
          </a:xfrm>
        </p:grpSpPr>
        <p:sp>
          <p:nvSpPr>
            <p:cNvPr id="562" name=""/>
            <p:cNvSpPr/>
            <p:nvPr/>
          </p:nvSpPr>
          <p:spPr>
            <a:xfrm>
              <a:off x="4807080" y="1295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67280" y="13017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58920" y="5473800"/>
            <a:ext cx="603684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Y OF CURRENT CHAR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NTHLY SERVICE .........................................................................................................................$12,8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$  1,31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IANA BELL CURRENT CHARGES............................................................................................$ 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..$ 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 CURRENT CHARGES..........................................................................$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CURRENT CHARGES..............................................................................................................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03-3116 117095.00-2330 PHN12**GEOBELL/U300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CERTIFY THAT THE SERVICE CALLED FOR IN THE DELIVERY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BEEN RENDERED PER THE TERMS &amp; SPECIFICATIONS OF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D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                                                                             /S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                                       RUPERT O. TAY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J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6280" y="723888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52600" y="8096400"/>
            <a:ext cx="1714320" cy="419040"/>
          </a:xfrm>
          <a:prstGeom prst="rect">
            <a:avLst/>
          </a:prstGeom>
          <a:noFill/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0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000" y="74520"/>
            <a:ext cx="6684840" cy="9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6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RJES, KEN H.     134-90-8888             ADMIN NCOIC, S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HC, 23D BDE                     78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CLASS 28-** PERSONNEL MGMT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5-2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05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5 DEC **    FROM FT. STEWART, - ARR FT. SHERIDAN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DEC **    DEP FT. SHERIDAN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                                            [ 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365.00             $  425.00        $  0.00          $  790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ES ARE AVAILA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OR8888TT/N103 S09076  $425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OR8888TT/N103 S09076  $36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9343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5080" y="6934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040" y="8674200"/>
            <a:ext cx="6334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12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84040" y="228600"/>
            <a:ext cx="6345360" cy="846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NDARD FORM 23                                              CONTRACT NO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UARY 1961 EDITION         CONSTRUCTION CONTRACT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DAFI01 **C 1594  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SEE INSTRUCTION ON REVERSE)      DATE OF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AND ADDRESS OF CONTRACTOR                               CHECK APPROPRIATE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 ] INDIVI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MITH BROTHERS BUILDING &amp; SUPPLY                         [ ]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130 S. MADISON                                          [ ] JOINT VEN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ANNAH, GA  31314                                      [X] CORPORATION I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HE STATE OF: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R AGENC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F TH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FOR (WORK TO BE PERFORMED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NOR REPAIR AND PAINTING EXTERIOR OF BLDGS# 3408, 3207, 4630, 4909, 4881, and 501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LA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. STEWART, GA.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PRICE (EXPRESS IN WORDS AND FIGURES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EN THOUSAND SIX HUNDRED FORTY TWO DOLLARS                       $10,64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MINISTRATIVE DATA (OPTIONAL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*2020 76-9505 117078.Z0-25CZ W23DFB*3350013/L10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ROGRESS PAYMENTS ARE AUTHORIZED AT THE RATE OF 10% PER BLDG COMPLE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(HEREINAFTER CALLED THE GOVERNMENT), RE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CONTRACTING OFFICER EXECUTING THIS CONTRACT, AND THE INDIVIDUAL,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OINT VENTURE, OR CORPORATION NAMED ABOVE (HEREINAFTER CALLED THE CONTRACTOR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TUALLY AGREE TO PERFORM THIS CONTRACT IN STRICT ACCORDANCE WITH THE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VISIONS (SF23-A), LABOR STANDARDS PROVISIONS APPLICABLE TO CONTRACTS IN EXCESS OF $2,000 (SF 19-A), AND THE FOLLOWING DESIGNATED SPECIFICATIONS, SCHEDULES,DRAWINGS, AND CONDI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K SHALL BE STARTED:                   WORK SHALL BE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DEC **                                    15 FEB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1040" y="11430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920" y="228600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76920" y="228600"/>
            <a:ext cx="0" cy="197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1040" y="25146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1040" y="29718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1040" y="35812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1040" y="40384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1040" y="784872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784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4495680"/>
            <a:ext cx="63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SMITH BROTHERS BLDG &amp; SUPPLY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"/>
          <p:cNvSpPr/>
          <p:nvPr/>
        </p:nvSpPr>
        <p:spPr>
          <a:xfrm>
            <a:off x="40680" y="876312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00520" y="4557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2840" y="2436840"/>
            <a:ext cx="6235560" cy="269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70000" y="548496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54640" y="6703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3080" y="801036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92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1040" y="845820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55308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1040" y="541008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680" y="876312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>
            <a:off x="40680" y="876312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6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680" y="876312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0" y="0"/>
          <a:ext cx="6858000" cy="899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99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40680" y="876312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680" y="876312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3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4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4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1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4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1000" y="977760"/>
            <a:ext cx="6570720" cy="747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51           TBO DISB / COLL                2  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1          $ 240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73200" y="3297240"/>
            <a:ext cx="33872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SN:  5059, 110 REPORT  T/L  #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4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4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4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0" y="0"/>
          <a:ext cx="6858000" cy="86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4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9800" y="2443320"/>
            <a:ext cx="6353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4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900000" y="45072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1000" y="977760"/>
            <a:ext cx="6570720" cy="704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05        CIVILIAN PAY                1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0       $161,524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21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$161,52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            $ 64,21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UDENT NO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CARDS FOR T/A &amp; 21 WILL BE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 THE SYSTE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ND DETAIL CARDS FOR THE T/A 42 WI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E COVERED IN MISCELLANEOUS TRANSAC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280" y="45720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629400" y="46980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971800" y="129528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9072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4300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09680" y="5715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7672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9568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41008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7880" y="800100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333440" y="342900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95280" y="346716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33440" y="495288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400800" y="346716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50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553080" y="525780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040" y="8686800"/>
            <a:ext cx="6334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52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5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040" y="8686800"/>
            <a:ext cx="6334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56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1840" y="8750160"/>
            <a:ext cx="357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04080" y="861048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37640" y="1066680"/>
            <a:ext cx="51750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MONTH RENTAL BEGINNING 1 DEC @ 10,000 PER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1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1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000" y="74520"/>
            <a:ext cx="6684840" cy="94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ILSON, JOHN D.     256-54-9701             CPT  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COMPTROLLER        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MEETING FOR FUNDING RESERVE CENT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, - ARR CHICAGO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                                           [ 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46.00             $  35.00        $  4.00          $  185.00               MAX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TES ARE AVAILA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WIL9701TT/N103 S09076   $ 35.00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WIL9701TT/N103 S09076   $150.00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 06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OHN J. SHOLTO, MAJ, AG                                    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#12-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680" y="86868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1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1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52280" y="457200"/>
          <a:ext cx="64008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4008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4568760" y="1370160"/>
            <a:ext cx="1342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RD FINANCE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80" y="8674200"/>
            <a:ext cx="636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                                                                             20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0T14:03:52Z</dcterms:created>
  <dc:creator>Soldier Support Institute</dc:creator>
  <dc:description/>
  <dc:language>en-US</dc:language>
  <cp:lastModifiedBy>Administrator</cp:lastModifiedBy>
  <cp:lastPrinted>2001-01-11T12:47:01Z</cp:lastPrinted>
  <dcterms:modified xsi:type="dcterms:W3CDTF">2004-09-16T15:16:22Z</dcterms:modified>
  <cp:revision>45</cp:revision>
  <dc:subject/>
  <dc:title>No Slide Title</dc:title>
</cp:coreProperties>
</file>